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24.jpeg" ContentType="image/jpeg"/>
  <Override PartName="/ppt/media/image21.jpeg" ContentType="image/jpeg"/>
  <Override PartName="/ppt/media/image16.png" ContentType="image/png"/>
  <Override PartName="/ppt/media/image19.wmf" ContentType="image/x-wmf"/>
  <Override PartName="/ppt/media/image14.jpeg" ContentType="image/jpeg"/>
  <Override PartName="/ppt/media/image17.png" ContentType="image/png"/>
  <Override PartName="/ppt/media/image15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2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5038-1BE4-4760-A918-01EE39A7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D450-1F0F-4DE3-BB8C-656F1382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4A80-A68B-4F56-9DC6-92B0C1BE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18BF-1EC5-42B2-A735-3C99B314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9A3C-4097-4028-8426-ADFF1030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37B0-6BDD-4E5B-8F68-15EB244B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A84A-15DD-4E74-9B32-636F74C3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0092-0548-4088-ABD5-0E29E22E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1042-FC61-4D8C-8DD7-820575FB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BC0A-2F73-41DF-B165-9AFA27A9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FFA3-A192-44D9-BB31-7BE725BA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126-A6A4-4417-B19C-EEB92B50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EA4B-C03B-4D51-88EC-36F8A017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57EF-9AE7-48EF-9679-678ADFE6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28BF-6DE4-4CED-B216-8EE94E40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A340-914B-4728-8579-25C17806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D552-37B6-4056-96B9-A3C94969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5CF9-D1B8-44A1-A1F8-6D90EB81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C12F-815D-474D-AC15-0F63DBD1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E7A0-131E-4A0B-864E-9713F659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48D8-4695-4826-AFCD-63907174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7201-965D-4BD8-89A3-DD63D04D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EDC3-A86E-4B57-B797-4C6E8483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7E9B-4F99-4B46-8769-9949C0C5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2225-60C5-4217-B19D-7A125E72086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703B-7915-4215-A71F-0ADAF2E2C50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ГЛАЗА И ОЧКИ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58560" y="2205000"/>
            <a:ext cx="6481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сследовательская рабо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6227640" y="3860640"/>
            <a:ext cx="273708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полни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евалова О.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чкова Е.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уководител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аженова Н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9640" y="3429000"/>
            <a:ext cx="5472360" cy="31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Динамика увеличения числа учеников с нарушением зр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4869000"/>
            <a:ext cx="882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днако число школьников с нарушением зрения увеличивается от младших классов к старшим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а примере учащихся двух  4-х классов мы четко видим эту динамику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396720" y="1700280"/>
          <a:ext cx="9289800" cy="36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1700280"/>
                    <a:ext cx="9289800" cy="36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9152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БЕРЕГИ</a:t>
            </a:r>
            <a:br>
              <a:rPr sz="7200"/>
            </a:b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 ЗРЕНИЕ</a:t>
            </a:r>
            <a:br>
              <a:rPr sz="7200"/>
            </a:b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 СМОЛОДУ!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итаминная дие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3960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ля здоровья глаз очень полезны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витамин 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морковь, томаты, сливочное масло, рыбий жир, яичный желток, листовые  овощи, творог, черника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витамин 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орехи, рыба, зерновые, фрукты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витамин 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лук, шиповник, цитрусовые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еобходимы нашим глазам и микроэлементы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алий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мёд, бананы, печеный картофель, растительное масло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цин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сельдь, печень, мясо, грибы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284720" y="1413000"/>
            <a:ext cx="4608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-171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имнастика для гла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. Попеременное движение глазами в горизонтальном направлении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посмотреть глазами вправо, считая до пят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медленно перевести глаза влево, считая до пят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посмотреть вперёд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закрыть глаза (отдых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.  Движение глазами в вертикальном направлении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посмотреть вверх на потолок, не поднимая головы, считая до пят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медленно опустить глаза вниз, посмотреть на пол, считая до пят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посмотреть вперёд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закрыть глаза (отдых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. Сильно сощурить глаза, затем широко раскры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. Моргание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быстро моргать, считая до тридцат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закрыть глаза (отдых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5. Взгляд на кончик носа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посмотреть на кончик носа, считая до двадцат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закрыть глаза (отдых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6. Сильно растереть ладони до жара и положить их на глаз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аждое упражнение необходимо повторить несколько раз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чки по форме лиц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40431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ердцевидное лиц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003640" y="1125360"/>
            <a:ext cx="3673800" cy="2440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3672000" cy="24447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539640" y="4149720"/>
            <a:ext cx="3672000" cy="2446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5003640" y="4149720"/>
            <a:ext cx="3672000" cy="24192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788000" y="765000"/>
            <a:ext cx="40431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руглое лиц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3645000"/>
            <a:ext cx="40431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Широкое лиц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88000" y="3716280"/>
            <a:ext cx="40431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вальное лиц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63800" y="1370520"/>
            <a:ext cx="68436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БЛАГОДАРИМ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З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ВНИМАНИЕ!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83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ЦЕЛЬ И ЗАДАЧИ РАБОТ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540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Цель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азработать буклеты с рекомендациями по сохранению зрения в школьные год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Гипотеза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овременные дети достаточно проинформированы об основных причинах снижения зрения. Они знают, что делать, чтобы избежать этого, но делают это не в полной мере или не делают совсе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зучить информацию по теме исследова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овести анкетирование среди учащихся 3-4 класс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овести беседы с учащимися 3-4 классов о важности сохранения зре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510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троение глаз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700360" y="980640"/>
            <a:ext cx="60199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Глаз имеет форму шара диаметром 2,5 см и вес около 7-8 г. Брови, ресницы и веки защищают глаз снаружи от пота и пыли.  Назначение слез – смачивать поверхность глазного яблока, чтобы она не высохла. Если в глаз попадет соринка, то слеза ее вымое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466720" cy="1656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572000" y="3213000"/>
            <a:ext cx="4321080" cy="3456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2466720" cy="1728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3068640"/>
            <a:ext cx="4537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переди глазное яблоко покрыто роговицей. Под ней мы видим радужную оболочку. В центре радужки находится зрачок. Через зрачок на хрусталик глаза попадает свет и изображение предметов. Затем, минуя стекловидное тело, попадает на сетчатку. От сетчатки зрительный нерв передает информацию в головной мозг, где она уже и обрабатыва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Этапы развития очк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3429000"/>
            <a:ext cx="2359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дзорная труб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2665440" cy="1774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132000" y="1268280"/>
            <a:ext cx="2808360" cy="1787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084720" y="1268280"/>
            <a:ext cx="2808360" cy="1809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250920" y="4076640"/>
            <a:ext cx="2736720" cy="1778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2808360" cy="1800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6084720" y="4076640"/>
            <a:ext cx="2808360" cy="1795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203640" y="342900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онок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00720" y="342900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Бинок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6093000"/>
            <a:ext cx="24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енс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48000" y="616572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ор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00720" y="616572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ч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Современные лечебные очк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181440" y="4941720"/>
            <a:ext cx="554508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настоящее время, помимо необходимости, очки становятся модным, стильным и дорогим аксессуаром. Разнообразие видов и моделей поражает воображени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Миллионы людей сегодня носят мягкие контактные линзы. Они очень хорошо переносятся глаз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435640" y="1268280"/>
            <a:ext cx="3457440" cy="2448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843280" y="1268280"/>
            <a:ext cx="2448000" cy="3456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250920" y="1268280"/>
            <a:ext cx="2495520" cy="3456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5435640" y="4221000"/>
            <a:ext cx="3457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олнцезащитные оч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2867040" cy="2953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211640" y="1125360"/>
            <a:ext cx="4392720" cy="2928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0920" y="3908160"/>
            <a:ext cx="799308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омпьютерные очк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1619280" y="4869000"/>
            <a:ext cx="2592360" cy="1728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5292720" y="4869000"/>
            <a:ext cx="22320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457200" y="2752560"/>
          <a:ext cx="4040280" cy="22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52560"/>
                    <a:ext cx="4040280" cy="22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24000" y="1268280"/>
          <a:ext cx="8578800" cy="532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268280"/>
                    <a:ext cx="8578800" cy="532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Диаграмма состояния зрения учащихс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126828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 нашей начальной школе обучается 274 ученика. По результатам  медицинского осмотра в начале учебного года выяснилось, что у 43 человек сниженное зр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280" y="-17136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Результаты анкетиро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920" y="69192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частниками опроса стали ученики 3-4 классов в количестве 118 человек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  Основными причинами ухудшения зрения считают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работу за компьютером, это 97,5 %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длительный просмотр телевизора, почти 90 %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неправильное положение спины во время занятий, более 55 %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 Практически все знают, что нельзя долго находиться у телевизора и компьютера - это может привести к ухудшению зре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 У более 98 % детей дома есть свое рабочее место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. Почти 90 % детей делают уроки за столом, остальные, где придется (на диване, на полу и даже на лестнице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. При выполнении домашних заданий настольную лампу постоянно используют почти 75 %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. Причинами, по которым дети отказались бы от очков, называют: нежелание, неудобство,  некрасивый и даже глупый вид, считают, что их будут обзывать и дразни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86407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 Для того чтобы сохранить зрение дети считают, что необходимо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ограничить время за компьютером и другими электронными      устройствами, 47,5%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меньше смотреть телевизор, более 43 %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правильно питаться, около 31 %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делать гимнастику для глаз, более 25 %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акже есть мнения, что необходимо следить за осанкой, посещать врача, носить очки, соблюдать гигиену глаз и больше отдыха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. Почти 23 % детей указали, что выполняют упражнения для глаз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ак показали результаты анкеты, учащиеся достаточно проинформированы о факторах, влияющих на снижение зрения, и о способах его сохранения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1041480" y="0"/>
            <a:ext cx="717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Результаты анкетиров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1:48:02Z</dcterms:created>
  <dc:creator>user</dc:creator>
  <dc:description/>
  <dc:language>en-US</dc:language>
  <cp:lastModifiedBy>user</cp:lastModifiedBy>
  <dcterms:modified xsi:type="dcterms:W3CDTF">2016-02-28T16:41:39Z</dcterms:modified>
  <cp:revision>36</cp:revision>
  <dc:subject/>
  <dc:title>Слайд 1</dc:title>
</cp:coreProperties>
</file>